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jpeg" ContentType="image/jpeg"/>
  <Override PartName="/ppt/media/Jeopardy.wav" ContentType="audio/x-wav"/>
  <Override PartName="/ppt/media/jep3.wav" ContentType="audio/x-wav"/>
  <Override PartName="/ppt/media/image13.jpeg" ContentType="image/jpeg"/>
  <Override PartName="/ppt/media/image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9E56-E041-464F-9CFF-5B294393E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E674-30DB-443C-A5FB-93638C2AE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8ABF-FD51-4415-9F56-F573E8DD5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0EFE-5678-4999-93CC-44CB2F16C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39A7-0DBF-4C83-A11A-E53392BF9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8FFD-3BF6-428F-9A7E-008EA45F7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024-5924-4BF0-A832-21668AC4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4354-6342-409A-978A-13DDD62D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06BD-A10A-4C7B-828F-028A88B6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74F7-7DDB-47D3-8E19-23DCC5AE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F413-FBFD-4B3A-B9C2-674BAFDC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645-1B1A-4CE4-9DF2-C18CE5CC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2B6-00EE-4313-A08F-4C680A9A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8F7-A0A9-4143-9471-7AFE9D71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28E-F18D-4933-BB9D-FF3DF6EE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CB6E-74E5-427F-82B9-D7456DF8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E72-768B-47BF-95AF-AF677D1A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AB6-DEC7-4A90-AF64-A3601617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299D-FD47-4A43-AB42-CE1F87E40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9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14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20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2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5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0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15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21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26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31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6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1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16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22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27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32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7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12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17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23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28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33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8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1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19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2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29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3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042"/>
          <p:cNvSpPr txBox="1"/>
          <p:nvPr/>
        </p:nvSpPr>
        <p:spPr>
          <a:xfrm>
            <a:off x="1981080" y="914400"/>
            <a:ext cx="54864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6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ttention 3rd Grade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thematicians..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is the Fraction on the number line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1" name="AutoShape 4">
            <a:hlinkClick r:id="rId2" action="ppaction://hlinksldjump"/>
          </p:cNvPr>
          <p:cNvSpPr/>
          <p:nvPr/>
        </p:nvSpPr>
        <p:spPr>
          <a:xfrm>
            <a:off x="6400800" y="4724280"/>
            <a:ext cx="1752480" cy="1371600"/>
          </a:xfrm>
          <a:custGeom>
            <a:avLst/>
            <a:gdLst>
              <a:gd name="textAreaLeft" fmla="*/ 88920 w 1752480"/>
              <a:gd name="textAreaRight" fmla="*/ 1663560 w 17524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7597" h="21600">
                <a:moveTo>
                  <a:pt x="0" y="0"/>
                </a:moveTo>
                <a:lnTo>
                  <a:pt x="27597" y="0"/>
                </a:lnTo>
                <a:lnTo>
                  <a:pt x="27597" y="21600"/>
                </a:lnTo>
                <a:lnTo>
                  <a:pt x="0" y="21600"/>
                </a:lnTo>
                <a:close/>
              </a:path>
              <a:path fill="lightenLess" w="27597" h="21600">
                <a:moveTo>
                  <a:pt x="0" y="0"/>
                </a:moveTo>
                <a:lnTo>
                  <a:pt x="27597" y="0"/>
                </a:lnTo>
                <a:lnTo>
                  <a:pt x="26197" y="1400"/>
                </a:lnTo>
                <a:lnTo>
                  <a:pt x="1400" y="1400"/>
                </a:lnTo>
                <a:close/>
              </a:path>
              <a:path fill="darken" w="27597" h="21600">
                <a:moveTo>
                  <a:pt x="27597" y="0"/>
                </a:moveTo>
                <a:lnTo>
                  <a:pt x="27597" y="21600"/>
                </a:lnTo>
                <a:lnTo>
                  <a:pt x="26197" y="20200"/>
                </a:lnTo>
                <a:lnTo>
                  <a:pt x="26197" y="1400"/>
                </a:lnTo>
                <a:close/>
              </a:path>
              <a:path fill="darkenLess" w="27597" h="21600">
                <a:moveTo>
                  <a:pt x="27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97" y="20200"/>
                </a:lnTo>
                <a:close/>
              </a:path>
              <a:path fill="lighten" w="27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97" h="21600">
                <a:moveTo>
                  <a:pt x="6792" y="10800"/>
                </a:moveTo>
                <a:lnTo>
                  <a:pt x="20805" y="3794"/>
                </a:lnTo>
                <a:lnTo>
                  <a:pt x="208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rcRect l="0" t="36169" r="0" b="41243"/>
          <a:stretch/>
        </p:blipFill>
        <p:spPr>
          <a:xfrm>
            <a:off x="1143000" y="3124080"/>
            <a:ext cx="6934320" cy="762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5867280" y="3429000"/>
            <a:ext cx="42876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is the Fraction on the number line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6" name="AutoShape 4">
            <a:hlinkClick r:id="rId2" action="ppaction://hlinksldjump"/>
          </p:cNvPr>
          <p:cNvSpPr/>
          <p:nvPr/>
        </p:nvSpPr>
        <p:spPr>
          <a:xfrm>
            <a:off x="6172200" y="4724280"/>
            <a:ext cx="1752480" cy="1371600"/>
          </a:xfrm>
          <a:custGeom>
            <a:avLst/>
            <a:gdLst>
              <a:gd name="textAreaLeft" fmla="*/ 88920 w 1752480"/>
              <a:gd name="textAreaRight" fmla="*/ 1663560 w 17524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7597" h="21600">
                <a:moveTo>
                  <a:pt x="0" y="0"/>
                </a:moveTo>
                <a:lnTo>
                  <a:pt x="27597" y="0"/>
                </a:lnTo>
                <a:lnTo>
                  <a:pt x="27597" y="21600"/>
                </a:lnTo>
                <a:lnTo>
                  <a:pt x="0" y="21600"/>
                </a:lnTo>
                <a:close/>
              </a:path>
              <a:path fill="lightenLess" w="27597" h="21600">
                <a:moveTo>
                  <a:pt x="0" y="0"/>
                </a:moveTo>
                <a:lnTo>
                  <a:pt x="27597" y="0"/>
                </a:lnTo>
                <a:lnTo>
                  <a:pt x="26197" y="1400"/>
                </a:lnTo>
                <a:lnTo>
                  <a:pt x="1400" y="1400"/>
                </a:lnTo>
                <a:close/>
              </a:path>
              <a:path fill="darken" w="27597" h="21600">
                <a:moveTo>
                  <a:pt x="27597" y="0"/>
                </a:moveTo>
                <a:lnTo>
                  <a:pt x="27597" y="21600"/>
                </a:lnTo>
                <a:lnTo>
                  <a:pt x="26197" y="20200"/>
                </a:lnTo>
                <a:lnTo>
                  <a:pt x="26197" y="1400"/>
                </a:lnTo>
                <a:close/>
              </a:path>
              <a:path fill="darkenLess" w="27597" h="21600">
                <a:moveTo>
                  <a:pt x="27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97" y="20200"/>
                </a:lnTo>
                <a:close/>
              </a:path>
              <a:path fill="lighten" w="27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97" h="21600">
                <a:moveTo>
                  <a:pt x="6792" y="10800"/>
                </a:moveTo>
                <a:lnTo>
                  <a:pt x="20805" y="3794"/>
                </a:lnTo>
                <a:lnTo>
                  <a:pt x="208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rcRect l="0" t="56784" r="0" b="20628"/>
          <a:stretch/>
        </p:blipFill>
        <p:spPr>
          <a:xfrm>
            <a:off x="990720" y="3200400"/>
            <a:ext cx="7315200" cy="7621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7572240" y="3457440"/>
            <a:ext cx="42876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is the Fraction on the number line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1" name="AutoShape 4">
            <a:hlinkClick r:id="rId2" action="ppaction://hlinksldjump"/>
          </p:cNvPr>
          <p:cNvSpPr/>
          <p:nvPr/>
        </p:nvSpPr>
        <p:spPr>
          <a:xfrm>
            <a:off x="6858000" y="525780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rcRect l="2130" t="369" r="47228" b="70086"/>
          <a:stretch/>
        </p:blipFill>
        <p:spPr>
          <a:xfrm>
            <a:off x="838080" y="3124080"/>
            <a:ext cx="6248520" cy="1905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3048120" y="3581280"/>
            <a:ext cx="42840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is the Fraction on the number line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6" name="AutoShape 4">
            <a:hlinkClick r:id="rId2" action="ppaction://hlinksldjump"/>
          </p:cNvPr>
          <p:cNvSpPr/>
          <p:nvPr/>
        </p:nvSpPr>
        <p:spPr>
          <a:xfrm>
            <a:off x="6553080" y="4648320"/>
            <a:ext cx="1600200" cy="1218960"/>
          </a:xfrm>
          <a:custGeom>
            <a:avLst/>
            <a:gdLst>
              <a:gd name="textAreaLeft" fmla="*/ 78840 w 1600200"/>
              <a:gd name="textAreaRight" fmla="*/ 1521360 w 1600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8354" h="21600">
                <a:moveTo>
                  <a:pt x="0" y="0"/>
                </a:moveTo>
                <a:lnTo>
                  <a:pt x="28354" y="0"/>
                </a:lnTo>
                <a:lnTo>
                  <a:pt x="28354" y="21600"/>
                </a:lnTo>
                <a:lnTo>
                  <a:pt x="0" y="21600"/>
                </a:lnTo>
                <a:close/>
              </a:path>
              <a:path fill="lightenLess" w="28354" h="21600">
                <a:moveTo>
                  <a:pt x="0" y="0"/>
                </a:moveTo>
                <a:lnTo>
                  <a:pt x="28354" y="0"/>
                </a:lnTo>
                <a:lnTo>
                  <a:pt x="26954" y="1400"/>
                </a:lnTo>
                <a:lnTo>
                  <a:pt x="1400" y="1400"/>
                </a:lnTo>
                <a:close/>
              </a:path>
              <a:path fill="darken" w="28354" h="21600">
                <a:moveTo>
                  <a:pt x="28354" y="0"/>
                </a:moveTo>
                <a:lnTo>
                  <a:pt x="28354" y="21600"/>
                </a:lnTo>
                <a:lnTo>
                  <a:pt x="26954" y="20200"/>
                </a:lnTo>
                <a:lnTo>
                  <a:pt x="26954" y="1400"/>
                </a:lnTo>
                <a:close/>
              </a:path>
              <a:path fill="darkenLess" w="28354" h="21600">
                <a:moveTo>
                  <a:pt x="28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54" y="20200"/>
                </a:lnTo>
                <a:close/>
              </a:path>
              <a:path fill="lighten" w="28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54" h="21600">
                <a:moveTo>
                  <a:pt x="7170" y="10800"/>
                </a:moveTo>
                <a:lnTo>
                  <a:pt x="21183" y="3794"/>
                </a:lnTo>
                <a:lnTo>
                  <a:pt x="21183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rcRect l="2273" t="59691" r="0" b="0"/>
          <a:stretch/>
        </p:blipFill>
        <p:spPr>
          <a:xfrm>
            <a:off x="1219320" y="3352680"/>
            <a:ext cx="6556320" cy="1184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867280" y="3886200"/>
            <a:ext cx="42876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rite this fraction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One fourth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1" name="AutoShape 4">
            <a:hlinkClick r:id="rId2" action="ppaction://hlinksldjump"/>
          </p:cNvPr>
          <p:cNvSpPr/>
          <p:nvPr/>
        </p:nvSpPr>
        <p:spPr>
          <a:xfrm>
            <a:off x="6553080" y="4724280"/>
            <a:ext cx="1676520" cy="1371600"/>
          </a:xfrm>
          <a:custGeom>
            <a:avLst/>
            <a:gdLst>
              <a:gd name="textAreaLeft" fmla="*/ 88920 w 1676520"/>
              <a:gd name="textAreaRight" fmla="*/ 1587600 w 16765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1" h="21600">
                <a:moveTo>
                  <a:pt x="6194" y="10800"/>
                </a:moveTo>
                <a:lnTo>
                  <a:pt x="20207" y="3794"/>
                </a:lnTo>
                <a:lnTo>
                  <a:pt x="20207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rite this fraction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Three fifths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4" name="AutoShape 4">
            <a:hlinkClick r:id="rId2" action="ppaction://hlinksldjump"/>
          </p:cNvPr>
          <p:cNvSpPr/>
          <p:nvPr/>
        </p:nvSpPr>
        <p:spPr>
          <a:xfrm>
            <a:off x="6553080" y="4876920"/>
            <a:ext cx="1676520" cy="1371600"/>
          </a:xfrm>
          <a:custGeom>
            <a:avLst/>
            <a:gdLst>
              <a:gd name="textAreaLeft" fmla="*/ 88920 w 1676520"/>
              <a:gd name="textAreaRight" fmla="*/ 1587600 w 16765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1" h="21600">
                <a:moveTo>
                  <a:pt x="6194" y="10800"/>
                </a:moveTo>
                <a:lnTo>
                  <a:pt x="20207" y="3794"/>
                </a:lnTo>
                <a:lnTo>
                  <a:pt x="20207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rite this fraction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One half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7" name="AutoShape 4">
            <a:hlinkClick r:id="rId2" action="ppaction://hlinksldjump"/>
          </p:cNvPr>
          <p:cNvSpPr/>
          <p:nvPr/>
        </p:nvSpPr>
        <p:spPr>
          <a:xfrm>
            <a:off x="6781680" y="5029200"/>
            <a:ext cx="1524240" cy="1219320"/>
          </a:xfrm>
          <a:custGeom>
            <a:avLst/>
            <a:gdLst>
              <a:gd name="textAreaLeft" fmla="*/ 78840 w 1524240"/>
              <a:gd name="textAreaRight" fmla="*/ 1445400 w 15242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1" lang="en-US" sz="9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1" lang="en-US" sz="9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1" lang="en-US" sz="4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3" name="AutoShape 7">
            <a:hlinkClick r:id="rId2" action="ppaction://hlinksldjump"/>
          </p:cNvPr>
          <p:cNvSpPr/>
          <p:nvPr/>
        </p:nvSpPr>
        <p:spPr>
          <a:xfrm>
            <a:off x="6705720" y="50292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5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5" y="20200"/>
                </a:lnTo>
                <a:lnTo>
                  <a:pt x="27395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5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5" h="21600">
                <a:moveTo>
                  <a:pt x="7391" y="3794"/>
                </a:moveTo>
                <a:lnTo>
                  <a:pt x="21404" y="10800"/>
                </a:lnTo>
                <a:lnTo>
                  <a:pt x="7391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rite this fraction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One whole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Using fifths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6" name="AutoShape 4">
            <a:hlinkClick r:id="rId2" action="ppaction://hlinksldjump"/>
          </p:cNvPr>
          <p:cNvSpPr/>
          <p:nvPr/>
        </p:nvSpPr>
        <p:spPr>
          <a:xfrm>
            <a:off x="6629400" y="5105520"/>
            <a:ext cx="1523880" cy="1447560"/>
          </a:xfrm>
          <a:custGeom>
            <a:avLst/>
            <a:gdLst>
              <a:gd name="textAreaLeft" fmla="*/ 93600 w 1523880"/>
              <a:gd name="textAreaRight" fmla="*/ 1430280 w 152388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2739" h="21600">
                <a:moveTo>
                  <a:pt x="0" y="0"/>
                </a:moveTo>
                <a:lnTo>
                  <a:pt x="22739" y="0"/>
                </a:lnTo>
                <a:lnTo>
                  <a:pt x="22739" y="21600"/>
                </a:lnTo>
                <a:lnTo>
                  <a:pt x="0" y="21600"/>
                </a:lnTo>
                <a:close/>
              </a:path>
              <a:path fill="lightenLess" w="22739" h="21600">
                <a:moveTo>
                  <a:pt x="0" y="0"/>
                </a:moveTo>
                <a:lnTo>
                  <a:pt x="22739" y="0"/>
                </a:lnTo>
                <a:lnTo>
                  <a:pt x="21339" y="1400"/>
                </a:lnTo>
                <a:lnTo>
                  <a:pt x="1400" y="1400"/>
                </a:lnTo>
                <a:close/>
              </a:path>
              <a:path fill="darken" w="22739" h="21600">
                <a:moveTo>
                  <a:pt x="22739" y="0"/>
                </a:moveTo>
                <a:lnTo>
                  <a:pt x="22739" y="21600"/>
                </a:lnTo>
                <a:lnTo>
                  <a:pt x="21339" y="20200"/>
                </a:lnTo>
                <a:lnTo>
                  <a:pt x="21339" y="1400"/>
                </a:lnTo>
                <a:close/>
              </a:path>
              <a:path fill="darkenLess" w="22739" h="21600">
                <a:moveTo>
                  <a:pt x="22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9" y="20200"/>
                </a:lnTo>
                <a:close/>
              </a:path>
              <a:path fill="lighten" w="22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9" h="21600">
                <a:moveTo>
                  <a:pt x="4363" y="10800"/>
                </a:moveTo>
                <a:lnTo>
                  <a:pt x="18376" y="3794"/>
                </a:lnTo>
                <a:lnTo>
                  <a:pt x="1837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9" name="Text Box 24"/>
          <p:cNvSpPr/>
          <p:nvPr/>
        </p:nvSpPr>
        <p:spPr>
          <a:xfrm>
            <a:off x="1523880" y="243828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rite this fraction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Eight eights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0" name="AutoShape 25">
            <a:hlinkClick r:id="rId2" action="ppaction://hlinksldjump"/>
          </p:cNvPr>
          <p:cNvSpPr/>
          <p:nvPr/>
        </p:nvSpPr>
        <p:spPr>
          <a:xfrm>
            <a:off x="6629400" y="525780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5066" y="10800"/>
                </a:moveTo>
                <a:lnTo>
                  <a:pt x="19079" y="3794"/>
                </a:lnTo>
                <a:lnTo>
                  <a:pt x="19079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fraction does this picture represent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3" name="AutoShape 4">
            <a:hlinkClick r:id="rId2" action="ppaction://hlinksldjump"/>
          </p:cNvPr>
          <p:cNvSpPr/>
          <p:nvPr/>
        </p:nvSpPr>
        <p:spPr>
          <a:xfrm>
            <a:off x="6172200" y="4952880"/>
            <a:ext cx="1447920" cy="106704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9308" h="21600">
                <a:moveTo>
                  <a:pt x="0" y="0"/>
                </a:moveTo>
                <a:lnTo>
                  <a:pt x="29308" y="0"/>
                </a:lnTo>
                <a:lnTo>
                  <a:pt x="29308" y="21600"/>
                </a:lnTo>
                <a:lnTo>
                  <a:pt x="0" y="21600"/>
                </a:lnTo>
                <a:close/>
              </a:path>
              <a:path fill="lightenLess" w="29308" h="21600">
                <a:moveTo>
                  <a:pt x="0" y="0"/>
                </a:moveTo>
                <a:lnTo>
                  <a:pt x="29308" y="0"/>
                </a:lnTo>
                <a:lnTo>
                  <a:pt x="27908" y="1400"/>
                </a:lnTo>
                <a:lnTo>
                  <a:pt x="1400" y="1400"/>
                </a:lnTo>
                <a:close/>
              </a:path>
              <a:path fill="darken" w="29308" h="21600">
                <a:moveTo>
                  <a:pt x="29308" y="0"/>
                </a:moveTo>
                <a:lnTo>
                  <a:pt x="29308" y="21600"/>
                </a:lnTo>
                <a:lnTo>
                  <a:pt x="27908" y="20200"/>
                </a:lnTo>
                <a:lnTo>
                  <a:pt x="27908" y="1400"/>
                </a:lnTo>
                <a:close/>
              </a:path>
              <a:path fill="darkenLess" w="29308" h="21600">
                <a:moveTo>
                  <a:pt x="29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08" y="20200"/>
                </a:lnTo>
                <a:close/>
              </a:path>
              <a:path fill="lighten" w="29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08" h="21600">
                <a:moveTo>
                  <a:pt x="7647" y="10800"/>
                </a:moveTo>
                <a:lnTo>
                  <a:pt x="21660" y="3794"/>
                </a:lnTo>
                <a:lnTo>
                  <a:pt x="21660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276720" y="335268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5" name="AutoShape 13"/>
          <p:cNvSpPr/>
          <p:nvPr/>
        </p:nvSpPr>
        <p:spPr>
          <a:xfrm>
            <a:off x="3657600" y="33526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4038480" y="33526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4419720" y="335268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8" name="AutoShape 16"/>
          <p:cNvSpPr/>
          <p:nvPr/>
        </p:nvSpPr>
        <p:spPr>
          <a:xfrm>
            <a:off x="4800600" y="33526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9" name="AutoShape 17"/>
          <p:cNvSpPr/>
          <p:nvPr/>
        </p:nvSpPr>
        <p:spPr>
          <a:xfrm>
            <a:off x="5257800" y="33526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fraction does this picture represent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2" name="AutoShape 4">
            <a:hlinkClick r:id="rId2" action="ppaction://hlinksldjump"/>
          </p:cNvPr>
          <p:cNvSpPr/>
          <p:nvPr/>
        </p:nvSpPr>
        <p:spPr>
          <a:xfrm>
            <a:off x="6400800" y="46483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5413" y="10800"/>
                </a:moveTo>
                <a:lnTo>
                  <a:pt x="19426" y="3794"/>
                </a:lnTo>
                <a:lnTo>
                  <a:pt x="1942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657600" y="3886200"/>
            <a:ext cx="188604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fraction does this picture represent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6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828800" cy="1447920"/>
          </a:xfrm>
          <a:custGeom>
            <a:avLst/>
            <a:gdLst>
              <a:gd name="textAreaLeft" fmla="*/ 93600 w 1828800"/>
              <a:gd name="textAreaRight" fmla="*/ 1735200 w 18288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7281" h="21600">
                <a:moveTo>
                  <a:pt x="0" y="0"/>
                </a:moveTo>
                <a:lnTo>
                  <a:pt x="27281" y="0"/>
                </a:lnTo>
                <a:lnTo>
                  <a:pt x="27281" y="21600"/>
                </a:lnTo>
                <a:lnTo>
                  <a:pt x="0" y="21600"/>
                </a:lnTo>
                <a:close/>
              </a:path>
              <a:path fill="lightenLess" w="27281" h="21600">
                <a:moveTo>
                  <a:pt x="0" y="0"/>
                </a:moveTo>
                <a:lnTo>
                  <a:pt x="27281" y="0"/>
                </a:lnTo>
                <a:lnTo>
                  <a:pt x="25881" y="1400"/>
                </a:lnTo>
                <a:lnTo>
                  <a:pt x="1400" y="1400"/>
                </a:lnTo>
                <a:close/>
              </a:path>
              <a:path fill="darken" w="27281" h="21600">
                <a:moveTo>
                  <a:pt x="27281" y="0"/>
                </a:moveTo>
                <a:lnTo>
                  <a:pt x="27281" y="21600"/>
                </a:lnTo>
                <a:lnTo>
                  <a:pt x="25881" y="20200"/>
                </a:lnTo>
                <a:lnTo>
                  <a:pt x="25881" y="1400"/>
                </a:lnTo>
                <a:close/>
              </a:path>
              <a:path fill="darkenLess" w="27281" h="21600">
                <a:moveTo>
                  <a:pt x="27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81" y="20200"/>
                </a:lnTo>
                <a:close/>
              </a:path>
              <a:path fill="lighten" w="27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81" h="21600">
                <a:moveTo>
                  <a:pt x="6634" y="10800"/>
                </a:moveTo>
                <a:lnTo>
                  <a:pt x="20647" y="3794"/>
                </a:lnTo>
                <a:lnTo>
                  <a:pt x="20647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666880" y="3581280"/>
            <a:ext cx="282276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fraction does this picture represent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0" name="AutoShape 4">
            <a:hlinkClick r:id="rId2" action="ppaction://hlinksldjump"/>
          </p:cNvPr>
          <p:cNvSpPr/>
          <p:nvPr/>
        </p:nvSpPr>
        <p:spPr>
          <a:xfrm>
            <a:off x="6172200" y="4724280"/>
            <a:ext cx="1523880" cy="1295640"/>
          </a:xfrm>
          <a:custGeom>
            <a:avLst/>
            <a:gdLst>
              <a:gd name="textAreaLeft" fmla="*/ 83880 w 1523880"/>
              <a:gd name="textAreaRight" fmla="*/ 1440000 w 152388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5404" h="21600">
                <a:moveTo>
                  <a:pt x="0" y="0"/>
                </a:moveTo>
                <a:lnTo>
                  <a:pt x="25404" y="0"/>
                </a:lnTo>
                <a:lnTo>
                  <a:pt x="25404" y="21600"/>
                </a:lnTo>
                <a:lnTo>
                  <a:pt x="0" y="21600"/>
                </a:lnTo>
                <a:close/>
              </a:path>
              <a:path fill="lightenLess" w="25404" h="21600">
                <a:moveTo>
                  <a:pt x="0" y="0"/>
                </a:moveTo>
                <a:lnTo>
                  <a:pt x="25404" y="0"/>
                </a:lnTo>
                <a:lnTo>
                  <a:pt x="24004" y="1400"/>
                </a:lnTo>
                <a:lnTo>
                  <a:pt x="1400" y="1400"/>
                </a:lnTo>
                <a:close/>
              </a:path>
              <a:path fill="darken" w="25404" h="21600">
                <a:moveTo>
                  <a:pt x="25404" y="0"/>
                </a:moveTo>
                <a:lnTo>
                  <a:pt x="25404" y="21600"/>
                </a:lnTo>
                <a:lnTo>
                  <a:pt x="24004" y="20200"/>
                </a:lnTo>
                <a:lnTo>
                  <a:pt x="24004" y="1400"/>
                </a:lnTo>
                <a:close/>
              </a:path>
              <a:path fill="darkenLess" w="25404" h="21600">
                <a:moveTo>
                  <a:pt x="25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4" y="20200"/>
                </a:lnTo>
                <a:close/>
              </a:path>
              <a:path fill="lighten" w="25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4" h="21600">
                <a:moveTo>
                  <a:pt x="5696" y="10800"/>
                </a:moveTo>
                <a:lnTo>
                  <a:pt x="19708" y="3794"/>
                </a:lnTo>
                <a:lnTo>
                  <a:pt x="19708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rcRect l="62443" t="24829" r="7602" b="32650"/>
          <a:stretch/>
        </p:blipFill>
        <p:spPr>
          <a:xfrm>
            <a:off x="2971800" y="35812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fraction does this picture represent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914400" y="1828800"/>
            <a:ext cx="70866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5" name="AutoShape 5">
            <a:hlinkClick r:id="rId2" action="ppaction://hlinksldjump"/>
          </p:cNvPr>
          <p:cNvSpPr/>
          <p:nvPr/>
        </p:nvSpPr>
        <p:spPr>
          <a:xfrm>
            <a:off x="6553080" y="4952880"/>
            <a:ext cx="1676520" cy="1371600"/>
          </a:xfrm>
          <a:custGeom>
            <a:avLst/>
            <a:gdLst>
              <a:gd name="textAreaLeft" fmla="*/ 88920 w 1676520"/>
              <a:gd name="textAreaRight" fmla="*/ 1587600 w 16765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1" h="21600">
                <a:moveTo>
                  <a:pt x="6194" y="10800"/>
                </a:moveTo>
                <a:lnTo>
                  <a:pt x="20207" y="3794"/>
                </a:lnTo>
                <a:lnTo>
                  <a:pt x="20207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3"/>
          <a:srcRect l="34110" t="8635" r="33333" b="61157"/>
          <a:stretch/>
        </p:blipFill>
        <p:spPr>
          <a:xfrm>
            <a:off x="2895480" y="2819520"/>
            <a:ext cx="281952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Use  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&gt; 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,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 &lt; 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, or 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=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to show the relationship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between these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/5 , 1/4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9" name="AutoShape 4">
            <a:hlinkClick r:id="rId2" action="ppaction://hlinksldjump"/>
          </p:cNvPr>
          <p:cNvSpPr/>
          <p:nvPr/>
        </p:nvSpPr>
        <p:spPr>
          <a:xfrm>
            <a:off x="6629400" y="51055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10800"/>
                </a:moveTo>
                <a:lnTo>
                  <a:pt x="19470" y="3794"/>
                </a:lnTo>
                <a:lnTo>
                  <a:pt x="19470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2" name="Rectangle 2">
            <a:hlinkClick r:id="rId2" action="ppaction://hlinksldjump"/>
          </p:cNvPr>
          <p:cNvSpPr/>
          <p:nvPr/>
        </p:nvSpPr>
        <p:spPr>
          <a:xfrm>
            <a:off x="152280" y="15228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Use  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&gt; 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,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 &lt; 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, or 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=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to show the relationship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between these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5/6 , 3/4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3" name="AutoShape 5">
            <a:hlinkClick r:id="rId3" action="ppaction://hlinksldjump"/>
          </p:cNvPr>
          <p:cNvSpPr/>
          <p:nvPr/>
        </p:nvSpPr>
        <p:spPr>
          <a:xfrm>
            <a:off x="6248520" y="5105520"/>
            <a:ext cx="1828800" cy="1447560"/>
          </a:xfrm>
          <a:custGeom>
            <a:avLst/>
            <a:gdLst>
              <a:gd name="textAreaLeft" fmla="*/ 93600 w 1828800"/>
              <a:gd name="textAreaRight" fmla="*/ 1735200 w 182880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7287" h="21600">
                <a:moveTo>
                  <a:pt x="0" y="0"/>
                </a:moveTo>
                <a:lnTo>
                  <a:pt x="27287" y="0"/>
                </a:lnTo>
                <a:lnTo>
                  <a:pt x="27287" y="21600"/>
                </a:lnTo>
                <a:lnTo>
                  <a:pt x="0" y="21600"/>
                </a:lnTo>
                <a:close/>
              </a:path>
              <a:path fill="lightenLess" w="27287" h="21600">
                <a:moveTo>
                  <a:pt x="0" y="0"/>
                </a:moveTo>
                <a:lnTo>
                  <a:pt x="27287" y="0"/>
                </a:lnTo>
                <a:lnTo>
                  <a:pt x="25887" y="1400"/>
                </a:lnTo>
                <a:lnTo>
                  <a:pt x="1400" y="1400"/>
                </a:lnTo>
                <a:close/>
              </a:path>
              <a:path fill="darken" w="27287" h="21600">
                <a:moveTo>
                  <a:pt x="27287" y="0"/>
                </a:moveTo>
                <a:lnTo>
                  <a:pt x="27287" y="21600"/>
                </a:lnTo>
                <a:lnTo>
                  <a:pt x="25887" y="20200"/>
                </a:lnTo>
                <a:lnTo>
                  <a:pt x="25887" y="1400"/>
                </a:lnTo>
                <a:close/>
              </a:path>
              <a:path fill="darkenLess" w="27287" h="21600">
                <a:moveTo>
                  <a:pt x="27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87" y="20200"/>
                </a:lnTo>
                <a:close/>
              </a:path>
              <a:path fill="lighten" w="27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87" h="21600">
                <a:moveTo>
                  <a:pt x="6637" y="10800"/>
                </a:moveTo>
                <a:lnTo>
                  <a:pt x="20650" y="3794"/>
                </a:lnTo>
                <a:lnTo>
                  <a:pt x="20650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Use  &gt; , &lt; , or =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 show the relationship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etween these fractions: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8/12 , 2/3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2286000" y="188928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7" name="AutoShape 5">
            <a:hlinkClick r:id="rId2" action="ppaction://hlinksldjump"/>
          </p:cNvPr>
          <p:cNvSpPr/>
          <p:nvPr/>
        </p:nvSpPr>
        <p:spPr>
          <a:xfrm>
            <a:off x="6172200" y="502920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5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Use  &gt; , &lt; , or =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 show the relationship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etween these fractions: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/4 , 2/5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0" name="AutoShape 4">
            <a:hlinkClick r:id="rId2" action="ppaction://hlinksldjump"/>
          </p:cNvPr>
          <p:cNvSpPr/>
          <p:nvPr/>
        </p:nvSpPr>
        <p:spPr>
          <a:xfrm>
            <a:off x="6172200" y="4952880"/>
            <a:ext cx="1752480" cy="1219320"/>
          </a:xfrm>
          <a:custGeom>
            <a:avLst/>
            <a:gdLst>
              <a:gd name="textAreaLeft" fmla="*/ 78840 w 1752480"/>
              <a:gd name="textAreaRight" fmla="*/ 1673640 w 17524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2" h="21600">
                <a:moveTo>
                  <a:pt x="0" y="0"/>
                </a:moveTo>
                <a:lnTo>
                  <a:pt x="31042" y="0"/>
                </a:lnTo>
                <a:lnTo>
                  <a:pt x="31042" y="21600"/>
                </a:lnTo>
                <a:lnTo>
                  <a:pt x="0" y="21600"/>
                </a:lnTo>
                <a:close/>
              </a:path>
              <a:path fill="lightenLess" w="31042" h="21600">
                <a:moveTo>
                  <a:pt x="0" y="0"/>
                </a:moveTo>
                <a:lnTo>
                  <a:pt x="31042" y="0"/>
                </a:lnTo>
                <a:lnTo>
                  <a:pt x="29642" y="1400"/>
                </a:lnTo>
                <a:lnTo>
                  <a:pt x="1400" y="1400"/>
                </a:lnTo>
                <a:close/>
              </a:path>
              <a:path fill="darken" w="31042" h="21600">
                <a:moveTo>
                  <a:pt x="31042" y="0"/>
                </a:moveTo>
                <a:lnTo>
                  <a:pt x="31042" y="21600"/>
                </a:lnTo>
                <a:lnTo>
                  <a:pt x="29642" y="20200"/>
                </a:lnTo>
                <a:lnTo>
                  <a:pt x="29642" y="1400"/>
                </a:lnTo>
                <a:close/>
              </a:path>
              <a:path fill="darkenLess" w="31042" h="21600">
                <a:moveTo>
                  <a:pt x="31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2" y="20200"/>
                </a:lnTo>
                <a:close/>
              </a:path>
              <a:path fill="lighten" w="31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42" h="21600">
                <a:moveTo>
                  <a:pt x="8515" y="10800"/>
                </a:moveTo>
                <a:lnTo>
                  <a:pt x="22527" y="3794"/>
                </a:lnTo>
                <a:lnTo>
                  <a:pt x="22527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Use  &gt; , &lt; , or =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 show the relationship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etween these fractions: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7/12 , 3/4 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3" name="AutoShape 4">
            <a:hlinkClick r:id="rId2" action="ppaction://hlinksldjump"/>
          </p:cNvPr>
          <p:cNvSpPr/>
          <p:nvPr/>
        </p:nvSpPr>
        <p:spPr>
          <a:xfrm>
            <a:off x="6324480" y="495288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98" h="21600">
                <a:moveTo>
                  <a:pt x="10092" y="10800"/>
                </a:moveTo>
                <a:lnTo>
                  <a:pt x="24105" y="3794"/>
                </a:lnTo>
                <a:lnTo>
                  <a:pt x="241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54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57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60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63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66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69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72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75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78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81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84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87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90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93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96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99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2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5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8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1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4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7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20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23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26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29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2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5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8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41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3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4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5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8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quivalent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ractions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9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Number Line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0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rite the Fraction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1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raction Pictures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2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eater,  Less or =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3" name="Text Box 210"/>
          <p:cNvSpPr/>
          <p:nvPr/>
        </p:nvSpPr>
        <p:spPr>
          <a:xfrm>
            <a:off x="7696080" y="91440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ILD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ARD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54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6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6553080" y="4952880"/>
            <a:ext cx="1676520" cy="106704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33933" h="21600">
                <a:moveTo>
                  <a:pt x="0" y="0"/>
                </a:moveTo>
                <a:lnTo>
                  <a:pt x="33933" y="0"/>
                </a:lnTo>
                <a:lnTo>
                  <a:pt x="33933" y="21600"/>
                </a:lnTo>
                <a:lnTo>
                  <a:pt x="0" y="21600"/>
                </a:lnTo>
                <a:close/>
              </a:path>
              <a:path fill="lightenLess" w="33933" h="21600">
                <a:moveTo>
                  <a:pt x="0" y="0"/>
                </a:moveTo>
                <a:lnTo>
                  <a:pt x="33933" y="0"/>
                </a:lnTo>
                <a:lnTo>
                  <a:pt x="32533" y="1400"/>
                </a:lnTo>
                <a:lnTo>
                  <a:pt x="1400" y="1400"/>
                </a:lnTo>
                <a:close/>
              </a:path>
              <a:path fill="darken" w="33933" h="21600">
                <a:moveTo>
                  <a:pt x="33933" y="0"/>
                </a:moveTo>
                <a:lnTo>
                  <a:pt x="33933" y="21600"/>
                </a:lnTo>
                <a:lnTo>
                  <a:pt x="32533" y="20200"/>
                </a:lnTo>
                <a:lnTo>
                  <a:pt x="32533" y="1400"/>
                </a:lnTo>
                <a:close/>
              </a:path>
              <a:path fill="darkenLess" w="33933" h="21600">
                <a:moveTo>
                  <a:pt x="3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3" y="20200"/>
                </a:lnTo>
                <a:close/>
              </a:path>
              <a:path fill="lighten" w="3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3" h="21600">
                <a:moveTo>
                  <a:pt x="9960" y="10800"/>
                </a:moveTo>
                <a:lnTo>
                  <a:pt x="23973" y="3794"/>
                </a:lnTo>
                <a:lnTo>
                  <a:pt x="23973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7" name=""/>
          <p:cNvSpPr/>
          <p:nvPr/>
        </p:nvSpPr>
        <p:spPr>
          <a:xfrm>
            <a:off x="2918880" y="2362320"/>
            <a:ext cx="400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rite this fraction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Two thirds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can you say about 8/8 and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one whole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7391520" y="5334120"/>
            <a:ext cx="1523880" cy="106668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55" h="21600">
                <a:moveTo>
                  <a:pt x="8421" y="10800"/>
                </a:moveTo>
                <a:lnTo>
                  <a:pt x="22434" y="3794"/>
                </a:lnTo>
                <a:lnTo>
                  <a:pt x="2243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6553080" y="4572000"/>
            <a:ext cx="1676520" cy="1295280"/>
          </a:xfrm>
          <a:custGeom>
            <a:avLst/>
            <a:gdLst>
              <a:gd name="textAreaLeft" fmla="*/ 83880 w 1676520"/>
              <a:gd name="textAreaRight" fmla="*/ 1592640 w 16765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7956" h="21600">
                <a:moveTo>
                  <a:pt x="0" y="0"/>
                </a:moveTo>
                <a:lnTo>
                  <a:pt x="27956" y="0"/>
                </a:lnTo>
                <a:lnTo>
                  <a:pt x="27956" y="21600"/>
                </a:lnTo>
                <a:lnTo>
                  <a:pt x="0" y="21600"/>
                </a:lnTo>
                <a:close/>
              </a:path>
              <a:path fill="lightenLess" w="27956" h="21600">
                <a:moveTo>
                  <a:pt x="0" y="0"/>
                </a:moveTo>
                <a:lnTo>
                  <a:pt x="27956" y="0"/>
                </a:lnTo>
                <a:lnTo>
                  <a:pt x="26556" y="1400"/>
                </a:lnTo>
                <a:lnTo>
                  <a:pt x="1400" y="1400"/>
                </a:lnTo>
                <a:close/>
              </a:path>
              <a:path fill="darken" w="27956" h="21600">
                <a:moveTo>
                  <a:pt x="27956" y="0"/>
                </a:moveTo>
                <a:lnTo>
                  <a:pt x="27956" y="21600"/>
                </a:lnTo>
                <a:lnTo>
                  <a:pt x="26556" y="20200"/>
                </a:lnTo>
                <a:lnTo>
                  <a:pt x="26556" y="1400"/>
                </a:lnTo>
                <a:close/>
              </a:path>
              <a:path fill="darkenLess" w="27956" h="21600">
                <a:moveTo>
                  <a:pt x="27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56" y="20200"/>
                </a:lnTo>
                <a:close/>
              </a:path>
              <a:path fill="lighten" w="27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56" h="21600">
                <a:moveTo>
                  <a:pt x="6971" y="10800"/>
                </a:moveTo>
                <a:lnTo>
                  <a:pt x="20984" y="3794"/>
                </a:lnTo>
                <a:lnTo>
                  <a:pt x="2098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66616" t="47842" r="0" b="12161"/>
          <a:stretch/>
        </p:blipFill>
        <p:spPr>
          <a:xfrm>
            <a:off x="3505320" y="2819520"/>
            <a:ext cx="2909880" cy="28191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036440" y="1066680"/>
            <a:ext cx="714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f Sally ate two slices of this pizza,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fraction would be left over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number is on the number line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6477120" y="4648320"/>
            <a:ext cx="1523880" cy="1371600"/>
          </a:xfrm>
          <a:custGeom>
            <a:avLst/>
            <a:gdLst>
              <a:gd name="textAreaLeft" fmla="*/ 88920 w 1523880"/>
              <a:gd name="textAreaRight" fmla="*/ 1434960 w 15238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3997" h="21600">
                <a:moveTo>
                  <a:pt x="0" y="0"/>
                </a:moveTo>
                <a:lnTo>
                  <a:pt x="23997" y="0"/>
                </a:lnTo>
                <a:lnTo>
                  <a:pt x="23997" y="21600"/>
                </a:lnTo>
                <a:lnTo>
                  <a:pt x="0" y="21600"/>
                </a:lnTo>
                <a:close/>
              </a:path>
              <a:path fill="lightenLess" w="23997" h="21600">
                <a:moveTo>
                  <a:pt x="0" y="0"/>
                </a:moveTo>
                <a:lnTo>
                  <a:pt x="23997" y="0"/>
                </a:lnTo>
                <a:lnTo>
                  <a:pt x="22597" y="1400"/>
                </a:lnTo>
                <a:lnTo>
                  <a:pt x="1400" y="1400"/>
                </a:lnTo>
                <a:close/>
              </a:path>
              <a:path fill="darken" w="23997" h="21600">
                <a:moveTo>
                  <a:pt x="23997" y="0"/>
                </a:moveTo>
                <a:lnTo>
                  <a:pt x="23997" y="21600"/>
                </a:lnTo>
                <a:lnTo>
                  <a:pt x="22597" y="20200"/>
                </a:lnTo>
                <a:lnTo>
                  <a:pt x="22597" y="1400"/>
                </a:lnTo>
                <a:close/>
              </a:path>
              <a:path fill="darkenLess" w="23997" h="21600">
                <a:moveTo>
                  <a:pt x="2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7" y="20200"/>
                </a:lnTo>
                <a:close/>
              </a:path>
              <a:path fill="lighten" w="2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7" h="21600">
                <a:moveTo>
                  <a:pt x="4992" y="10800"/>
                </a:moveTo>
                <a:lnTo>
                  <a:pt x="19005" y="3794"/>
                </a:lnTo>
                <a:lnTo>
                  <a:pt x="190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rcRect l="0" t="0" r="0" b="52603"/>
          <a:stretch/>
        </p:blipFill>
        <p:spPr>
          <a:xfrm>
            <a:off x="1066680" y="3429000"/>
            <a:ext cx="6708960" cy="13921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743200" y="3962520"/>
            <a:ext cx="428760" cy="42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Create a number line on you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iteboard that shows sixths.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6400800" y="5029200"/>
            <a:ext cx="1752480" cy="1371600"/>
          </a:xfrm>
          <a:custGeom>
            <a:avLst/>
            <a:gdLst>
              <a:gd name="textAreaLeft" fmla="*/ 88920 w 1752480"/>
              <a:gd name="textAreaRight" fmla="*/ 1663560 w 17524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7597" h="21600">
                <a:moveTo>
                  <a:pt x="0" y="0"/>
                </a:moveTo>
                <a:lnTo>
                  <a:pt x="27597" y="0"/>
                </a:lnTo>
                <a:lnTo>
                  <a:pt x="27597" y="21600"/>
                </a:lnTo>
                <a:lnTo>
                  <a:pt x="0" y="21600"/>
                </a:lnTo>
                <a:close/>
              </a:path>
              <a:path fill="lightenLess" w="27597" h="21600">
                <a:moveTo>
                  <a:pt x="0" y="0"/>
                </a:moveTo>
                <a:lnTo>
                  <a:pt x="27597" y="0"/>
                </a:lnTo>
                <a:lnTo>
                  <a:pt x="26197" y="1400"/>
                </a:lnTo>
                <a:lnTo>
                  <a:pt x="1400" y="1400"/>
                </a:lnTo>
                <a:close/>
              </a:path>
              <a:path fill="darken" w="27597" h="21600">
                <a:moveTo>
                  <a:pt x="27597" y="0"/>
                </a:moveTo>
                <a:lnTo>
                  <a:pt x="27597" y="21600"/>
                </a:lnTo>
                <a:lnTo>
                  <a:pt x="26197" y="20200"/>
                </a:lnTo>
                <a:lnTo>
                  <a:pt x="26197" y="1400"/>
                </a:lnTo>
                <a:close/>
              </a:path>
              <a:path fill="darkenLess" w="27597" h="21600">
                <a:moveTo>
                  <a:pt x="27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97" y="20200"/>
                </a:lnTo>
                <a:close/>
              </a:path>
              <a:path fill="lighten" w="27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97" h="21600">
                <a:moveTo>
                  <a:pt x="6792" y="10800"/>
                </a:moveTo>
                <a:lnTo>
                  <a:pt x="20805" y="3794"/>
                </a:lnTo>
                <a:lnTo>
                  <a:pt x="208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6" name=""/>
          <p:cNvSpPr/>
          <p:nvPr/>
        </p:nvSpPr>
        <p:spPr>
          <a:xfrm>
            <a:off x="685080" y="1219320"/>
            <a:ext cx="7605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Your Mom is making a cake for your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cousin’s birthday party. If there are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0 people at the party and each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person gets one piece of cake, into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how many pieces does your Mom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need to cut the cake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639040" cy="422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2" name=""/>
          <p:cNvSpPr/>
          <p:nvPr/>
        </p:nvSpPr>
        <p:spPr>
          <a:xfrm>
            <a:off x="2801160" y="2590920"/>
            <a:ext cx="32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0 equal pieces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Find the missing number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in these equivalent fraction: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3/5 = 6/x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7467480" y="6400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0" name="AutoShape 4">
            <a:hlinkClick r:id="rId2" action="ppaction://hlinksldjump"/>
          </p:cNvPr>
          <p:cNvSpPr/>
          <p:nvPr/>
        </p:nvSpPr>
        <p:spPr>
          <a:xfrm>
            <a:off x="6400800" y="51055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Find the missing numbe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these equivalent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½=x/8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4" name="AutoShape 5">
            <a:hlinkClick r:id="rId2" action="ppaction://hlinksldjump"/>
          </p:cNvPr>
          <p:cNvSpPr/>
          <p:nvPr/>
        </p:nvSpPr>
        <p:spPr>
          <a:xfrm>
            <a:off x="6705720" y="4952880"/>
            <a:ext cx="1447560" cy="1371600"/>
          </a:xfrm>
          <a:custGeom>
            <a:avLst/>
            <a:gdLst>
              <a:gd name="textAreaLeft" fmla="*/ 88920 w 1447560"/>
              <a:gd name="textAreaRight" fmla="*/ 1358640 w 144756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2796" h="21600">
                <a:moveTo>
                  <a:pt x="0" y="0"/>
                </a:moveTo>
                <a:lnTo>
                  <a:pt x="22796" y="0"/>
                </a:lnTo>
                <a:lnTo>
                  <a:pt x="22796" y="21600"/>
                </a:lnTo>
                <a:lnTo>
                  <a:pt x="0" y="21600"/>
                </a:lnTo>
                <a:close/>
              </a:path>
              <a:path fill="lightenLess" w="22796" h="21600">
                <a:moveTo>
                  <a:pt x="0" y="0"/>
                </a:moveTo>
                <a:lnTo>
                  <a:pt x="22796" y="0"/>
                </a:lnTo>
                <a:lnTo>
                  <a:pt x="21396" y="1400"/>
                </a:lnTo>
                <a:lnTo>
                  <a:pt x="1400" y="1400"/>
                </a:lnTo>
                <a:close/>
              </a:path>
              <a:path fill="darken" w="22796" h="21600">
                <a:moveTo>
                  <a:pt x="22796" y="0"/>
                </a:moveTo>
                <a:lnTo>
                  <a:pt x="22796" y="21600"/>
                </a:lnTo>
                <a:lnTo>
                  <a:pt x="21396" y="20200"/>
                </a:lnTo>
                <a:lnTo>
                  <a:pt x="21396" y="1400"/>
                </a:lnTo>
                <a:close/>
              </a:path>
              <a:path fill="darkenLess" w="22796" h="21600">
                <a:moveTo>
                  <a:pt x="22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96" y="20200"/>
                </a:lnTo>
                <a:close/>
              </a:path>
              <a:path fill="lighten" w="22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96" h="21600">
                <a:moveTo>
                  <a:pt x="4391" y="10800"/>
                </a:moveTo>
                <a:lnTo>
                  <a:pt x="18404" y="3794"/>
                </a:lnTo>
                <a:lnTo>
                  <a:pt x="1840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Find the missing numbe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these equivalent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20/30 = 2/x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7" name="AutoShape 4">
            <a:hlinkClick r:id="rId2" action="ppaction://hlinksldjump"/>
          </p:cNvPr>
          <p:cNvSpPr/>
          <p:nvPr/>
        </p:nvSpPr>
        <p:spPr>
          <a:xfrm>
            <a:off x="6781680" y="5029200"/>
            <a:ext cx="1371600" cy="1219320"/>
          </a:xfrm>
          <a:custGeom>
            <a:avLst/>
            <a:gdLst>
              <a:gd name="textAreaLeft" fmla="*/ 78840 w 1371600"/>
              <a:gd name="textAreaRight" fmla="*/ 1292760 w 13716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7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7" y="20200"/>
                </a:lnTo>
                <a:lnTo>
                  <a:pt x="22897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7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7" h="21600">
                <a:moveTo>
                  <a:pt x="5142" y="10800"/>
                </a:moveTo>
                <a:lnTo>
                  <a:pt x="19155" y="3794"/>
                </a:lnTo>
                <a:lnTo>
                  <a:pt x="1915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Find the missing numbe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these equivalent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3/6=1/x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0" name="AutoShape 4">
            <a:hlinkClick r:id="rId2" action="ppaction://hlinksldjump"/>
          </p:cNvPr>
          <p:cNvSpPr/>
          <p:nvPr/>
        </p:nvSpPr>
        <p:spPr>
          <a:xfrm>
            <a:off x="6477120" y="5029200"/>
            <a:ext cx="1600200" cy="1371600"/>
          </a:xfrm>
          <a:custGeom>
            <a:avLst/>
            <a:gdLst>
              <a:gd name="textAreaLeft" fmla="*/ 88920 w 1600200"/>
              <a:gd name="textAreaRight" fmla="*/ 1511280 w 16002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5199" h="21600">
                <a:moveTo>
                  <a:pt x="0" y="0"/>
                </a:moveTo>
                <a:lnTo>
                  <a:pt x="25199" y="0"/>
                </a:lnTo>
                <a:lnTo>
                  <a:pt x="25199" y="21600"/>
                </a:lnTo>
                <a:lnTo>
                  <a:pt x="0" y="21600"/>
                </a:lnTo>
                <a:close/>
              </a:path>
              <a:path fill="lightenLess" w="25199" h="21600">
                <a:moveTo>
                  <a:pt x="0" y="0"/>
                </a:moveTo>
                <a:lnTo>
                  <a:pt x="25199" y="0"/>
                </a:lnTo>
                <a:lnTo>
                  <a:pt x="23799" y="1400"/>
                </a:lnTo>
                <a:lnTo>
                  <a:pt x="1400" y="1400"/>
                </a:lnTo>
                <a:close/>
              </a:path>
              <a:path fill="darken" w="25199" h="21600">
                <a:moveTo>
                  <a:pt x="25199" y="0"/>
                </a:moveTo>
                <a:lnTo>
                  <a:pt x="25199" y="21600"/>
                </a:lnTo>
                <a:lnTo>
                  <a:pt x="23799" y="20200"/>
                </a:lnTo>
                <a:lnTo>
                  <a:pt x="23799" y="1400"/>
                </a:lnTo>
                <a:close/>
              </a:path>
              <a:path fill="darkenLess" w="25199" h="21600">
                <a:moveTo>
                  <a:pt x="25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9" y="20200"/>
                </a:lnTo>
                <a:close/>
              </a:path>
              <a:path fill="lighten" w="25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9" h="21600">
                <a:moveTo>
                  <a:pt x="5593" y="10800"/>
                </a:moveTo>
                <a:lnTo>
                  <a:pt x="19606" y="3794"/>
                </a:lnTo>
                <a:lnTo>
                  <a:pt x="1960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Find the missing number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these equivalent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8/8=1/x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3" name="AutoShape 4">
            <a:hlinkClick r:id="rId2" action="ppaction://hlinksldjump"/>
          </p:cNvPr>
          <p:cNvSpPr/>
          <p:nvPr/>
        </p:nvSpPr>
        <p:spPr>
          <a:xfrm>
            <a:off x="6248520" y="4876920"/>
            <a:ext cx="1676160" cy="1371600"/>
          </a:xfrm>
          <a:custGeom>
            <a:avLst/>
            <a:gdLst>
              <a:gd name="textAreaLeft" fmla="*/ 88920 w 1676160"/>
              <a:gd name="textAreaRight" fmla="*/ 1587240 w 167616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5" h="21600">
                <a:moveTo>
                  <a:pt x="6191" y="10800"/>
                </a:moveTo>
                <a:lnTo>
                  <a:pt x="20204" y="3794"/>
                </a:lnTo>
                <a:lnTo>
                  <a:pt x="2020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is the Fraction on the number line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6" name="AutoShape 4">
            <a:hlinkClick r:id="rId2" action="ppaction://hlinksldjump"/>
          </p:cNvPr>
          <p:cNvSpPr/>
          <p:nvPr/>
        </p:nvSpPr>
        <p:spPr>
          <a:xfrm>
            <a:off x="6477120" y="4495680"/>
            <a:ext cx="1523880" cy="1371600"/>
          </a:xfrm>
          <a:custGeom>
            <a:avLst/>
            <a:gdLst>
              <a:gd name="textAreaLeft" fmla="*/ 88920 w 1523880"/>
              <a:gd name="textAreaRight" fmla="*/ 1434960 w 15238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3997" h="21600">
                <a:moveTo>
                  <a:pt x="0" y="0"/>
                </a:moveTo>
                <a:lnTo>
                  <a:pt x="23997" y="0"/>
                </a:lnTo>
                <a:lnTo>
                  <a:pt x="23997" y="21600"/>
                </a:lnTo>
                <a:lnTo>
                  <a:pt x="0" y="21600"/>
                </a:lnTo>
                <a:close/>
              </a:path>
              <a:path fill="lightenLess" w="23997" h="21600">
                <a:moveTo>
                  <a:pt x="0" y="0"/>
                </a:moveTo>
                <a:lnTo>
                  <a:pt x="23997" y="0"/>
                </a:lnTo>
                <a:lnTo>
                  <a:pt x="22597" y="1400"/>
                </a:lnTo>
                <a:lnTo>
                  <a:pt x="1400" y="1400"/>
                </a:lnTo>
                <a:close/>
              </a:path>
              <a:path fill="darken" w="23997" h="21600">
                <a:moveTo>
                  <a:pt x="23997" y="0"/>
                </a:moveTo>
                <a:lnTo>
                  <a:pt x="23997" y="21600"/>
                </a:lnTo>
                <a:lnTo>
                  <a:pt x="22597" y="20200"/>
                </a:lnTo>
                <a:lnTo>
                  <a:pt x="22597" y="1400"/>
                </a:lnTo>
                <a:close/>
              </a:path>
              <a:path fill="darkenLess" w="23997" h="21600">
                <a:moveTo>
                  <a:pt x="2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7" y="20200"/>
                </a:lnTo>
                <a:close/>
              </a:path>
              <a:path fill="lighten" w="2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7" h="21600">
                <a:moveTo>
                  <a:pt x="4992" y="10800"/>
                </a:moveTo>
                <a:lnTo>
                  <a:pt x="19005" y="3794"/>
                </a:lnTo>
                <a:lnTo>
                  <a:pt x="190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rcRect l="0" t="13555" r="0" b="61589"/>
          <a:stretch/>
        </p:blipFill>
        <p:spPr>
          <a:xfrm>
            <a:off x="1523880" y="3429000"/>
            <a:ext cx="457200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3581280" y="3809880"/>
            <a:ext cx="428760" cy="42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cpore</cp:lastModifiedBy>
  <dcterms:modified xsi:type="dcterms:W3CDTF">2014-03-13T14:57:17Z</dcterms:modified>
  <cp:revision>75</cp:revision>
  <dc:subject/>
  <dc:title>No Slide Title</dc:title>
</cp:coreProperties>
</file>